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F5C-AD97-4CA5-8171-BDA218BF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CEE-8680-4391-A053-2545849E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83E-A659-4638-9F22-1A50C1DF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0C1-453D-40E7-B9DE-BBDECE72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7144-2D64-4949-A34E-84D1DB04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144D-F489-4363-8CD3-89678A2A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AF5B-2FC1-40A2-84D2-8CCC1BFC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797B-E8B1-484D-B434-96909434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B41B-3FFB-4311-BB2C-7180C643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94CC-53BF-4ACF-A797-9CFFB91B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2D7F-8323-489B-A23F-17668BF0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4E3-6EB4-460F-A860-D87526E0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ED7E-1A76-4535-A569-CDF2EC7E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5C8B-E682-466F-95A9-B54BEBB5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F575-A91E-4F11-90E9-EA52D307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6F4D-50D8-48CD-B106-EE90EB07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456C-53D6-46CC-B9CE-66A753BE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781-42EC-48EA-A68C-D70B352D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A1C-E860-4632-8910-0EB0B9B5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0AA-16B9-400B-962A-4877AD36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0B5-A3B5-40BB-8AA7-C309B067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A5C-B65E-4C9A-8C6B-1B81637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F33-68D6-4203-B61F-E867717C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305-CE79-448D-9931-3A52C2C1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04A1-CBE2-4743-B534-30EBEB3A0B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6C5E-3CC1-42FD-A316-7D70D7C04E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7734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RÓWNOŚĆ UŁAM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1628640"/>
            <a:ext cx="62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rawdź za pomocą osi liczbowej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ówność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ułamkó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581280" y="2732040"/>
            <a:ext cx="1525680" cy="787320"/>
            <a:chOff x="3581280" y="2732040"/>
            <a:chExt cx="1525680" cy="78732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4167360" y="2732040"/>
                  <a:ext cx="93960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3581280" y="29131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81280" y="5386320"/>
            <a:ext cx="1525680" cy="787320"/>
            <a:chOff x="3581280" y="5386320"/>
            <a:chExt cx="1525680" cy="78732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4167360" y="5386320"/>
                  <a:ext cx="93960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3581280" y="55591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581280" y="3632040"/>
            <a:ext cx="1440000" cy="787320"/>
            <a:chOff x="3581280" y="3632040"/>
            <a:chExt cx="1440000" cy="78732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4208400" y="3632040"/>
                  <a:ext cx="81288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3581280" y="378144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581280" y="4508640"/>
            <a:ext cx="1440000" cy="787320"/>
            <a:chOff x="3581280" y="4508640"/>
            <a:chExt cx="1440000" cy="787320"/>
          </a:xfrm>
        </p:grpSpPr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4233960" y="4508640"/>
                  <a:ext cx="78732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"/>
            <p:cNvSpPr/>
            <p:nvPr/>
          </p:nvSpPr>
          <p:spPr>
            <a:xfrm>
              <a:off x="3581280" y="465948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NOŻENIE NA KRZY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22400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ą metodą sprawdzania, czy ułamki są sobie równe je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oda zwana „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todą na krzy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203364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ykł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rawdzamy, czy podane ułamki są sobie rów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727360" y="2573280"/>
                <a:ext cx="84276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07000" y="2575080"/>
                <a:ext cx="6300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flipV="1">
            <a:off x="3541680" y="3117960"/>
            <a:ext cx="1141560" cy="704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41680" y="3117960"/>
            <a:ext cx="1141560" cy="7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97000" y="45435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oży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 pierwsz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 przez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 drugi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zyli: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3 = 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97000" y="53974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oży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 pierwsz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 przez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 drugi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zyli: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2 = 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42000" y="2671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my: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3 = 1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2360" y="306864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24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516640" y="3519360"/>
            <a:ext cx="3375000" cy="676440"/>
            <a:chOff x="5516640" y="3519360"/>
            <a:chExt cx="3375000" cy="676440"/>
          </a:xfrm>
        </p:grpSpPr>
        <p:sp>
          <p:nvSpPr>
            <p:cNvPr id="124" name=""/>
            <p:cNvSpPr/>
            <p:nvPr/>
          </p:nvSpPr>
          <p:spPr>
            <a:xfrm>
              <a:off x="5516640" y="3654360"/>
              <a:ext cx="33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Ułamki       i      są rów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6642360" y="3519360"/>
                  <a:ext cx="34920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7182000" y="3519360"/>
                  <a:ext cx="262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58:07Z</dcterms:modified>
  <cp:revision>42</cp:revision>
  <dc:subject/>
  <dc:title>Slajd 1</dc:title>
</cp:coreProperties>
</file>